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D88B-DF41-4FDD-B14B-B2BDA0A44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5396-FBB7-493B-9740-F9EBA84C1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w Cen MT Condensed"/>
              </a:rPr>
              <a:t>Universal Dependencies</a:t>
            </a:r>
            <a:endParaRPr b="0" lang="en-US" sz="6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Joakim Niv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ppsala Univers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inguistics and Phil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niversal Dependenci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ebank annotation schemes vary across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mpare results across languages [Nivre et al. 2007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evaluate cross-lingual learning [McDonald et al. 2013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build multilingual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 Dependencies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universaldependencies.github.io/docs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ford universal dependencies [de Marneffe et al. 2014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gle universal part-of-speech tags [Petrov et al. 2012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t morphological features [Zeman 2008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First guidelines released Oct 1, 20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First 10 treebanks released Jan 15, 20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niversal Dependenci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440" y="4927320"/>
            <a:ext cx="8379000" cy="181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tactic words – explicit splitting of clitics and contra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versal part-of-speech tags + morphological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ency tree + augmented dependencies (not show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712800" y="2122560"/>
            <a:ext cx="827568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uiding Principl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parallel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't annotate the same thing in different w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't make different things look the s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n't overdo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't annotate things that are not t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s select from a universal pool of catego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language-specific exten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pendency Structur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440" y="5310000"/>
            <a:ext cx="8188200" cy="122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ing content words as heads promotes parallelism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ction words often correlate with morpholog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538280" y="1781280"/>
            <a:ext cx="606744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w Cen MT Condensed"/>
              </a:rPr>
              <a:t>Dependency Relations </a:t>
            </a:r>
            <a:r>
              <a:rPr b="0" lang="fr-FR" sz="4000" spc="-1" strike="noStrike">
                <a:solidFill>
                  <a:srgbClr val="000000"/>
                </a:solidFill>
                <a:latin typeface="Tw Cen MT Condensed"/>
              </a:rPr>
              <a:t>[de Marneffe et al. 2014]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440" y="5271840"/>
            <a:ext cx="8264520" cy="12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onomy of 42 universal grammatical relations, broadly supported across many languages in language typ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specific subtypes can be ad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1"/>
          <a:stretch/>
        </p:blipFill>
        <p:spPr>
          <a:xfrm>
            <a:off x="-44280" y="1355760"/>
            <a:ext cx="923256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rpholog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5349600"/>
            <a:ext cx="8188200" cy="118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onomy of 17 universal part-of-speech tags, based on the Google Universal Tagset [Petrov et al. 2012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ed inventory of morphological features, based on the Interset system [Zeman 2008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308240" y="2008080"/>
          <a:ext cx="6912000" cy="2656080"/>
        </p:xfrm>
        <a:graphic>
          <a:graphicData uri="http://schemas.openxmlformats.org/drawingml/2006/table">
            <a:tbl>
              <a:tblPr/>
              <a:tblGrid>
                <a:gridCol w="2303280"/>
                <a:gridCol w="2878200"/>
                <a:gridCol w="1730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class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 class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3T19:18:16Z</dcterms:created>
  <dc:creator>Giuseppe Attardi</dc:creator>
  <dc:description/>
  <dc:language>en-US</dc:language>
  <cp:lastModifiedBy>Giuseppe Attardi</cp:lastModifiedBy>
  <dcterms:modified xsi:type="dcterms:W3CDTF">2015-04-24T14:26:03Z</dcterms:modified>
  <cp:revision>744</cp:revision>
  <dc:subject/>
  <dc:title>Categorization</dc:title>
</cp:coreProperties>
</file>